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4CF-6842-4825-91B1-2DE226E0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E69-127A-4FEE-A53D-05B8A3B1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D4F-CB49-4F0C-AC5A-53D65EB4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01C-6E02-46A5-AC6C-2824A6D9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BBD-28B3-4B9C-AD77-E94F167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745-78E7-495B-B4FA-83F0B732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2DF-6EA7-495B-8222-02B215E9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5F5-348A-4E6F-807A-C91D046A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7E5-5850-4247-B0C5-98753250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11F-CD90-4741-AE0A-B5B4DF9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DE7-EF4B-4615-A382-2F476DA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D58-AB68-4C7A-AA6B-1DAC3EC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601D3-6715-4099-89D4-4E68B2587F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589BD-C7E7-472C-8507-75DDF7F18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revolu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slideshow/2011/02/06/weekinreview/06revolution-slideshow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ical R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/ Mr. Fa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you will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/ Contrast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a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/analyze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ain how individuals/ groups (governmental and ngo’s) influence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 how current issues/possible solutions may be viewed differently by cultural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 ways countries/ groups respond to unity vs. diversity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e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group, collaborate and write out a definition for Revolution on your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defini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your defini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he definitions simil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hese definitions differ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definition of Revolution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ictionary.reference.com/browse/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/ Contrast R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are the commonalities and differences between and among these uprising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out the captions, what story do these photographs tell? If you had not read the captions, what would you think that this slide show was about? Wh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all of the events included in this slide show fit our definition of revolution? If not, which ones do not fit our definition and wh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questions do you come away from this slide show with? Which of these events would you like to know more abou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Show R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ytimes.com/slideshow/2011/02/06/weekinreview/06revolution-slideshow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/ Contrast R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are the commonalities and differences between and among these uprising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out the captions, what story do these photographs tell? If you had not read the captions, what would you think that this slide show was about? Wh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all of the events included in this slide show fit our definition of revolution? If not, which ones do not fit our definition and wh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questions do you come away from this slide show with? Which of these events would you like to know more abou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6:51:14Z</dcterms:created>
  <dc:creator>Craig Rush</dc:creator>
  <dc:description/>
  <dc:language>en-US</dc:language>
  <cp:lastModifiedBy>Craig Rush</cp:lastModifiedBy>
  <dcterms:modified xsi:type="dcterms:W3CDTF">2011-02-21T17:07:29Z</dcterms:modified>
  <cp:revision>1</cp:revision>
  <dc:subject/>
  <dc:title>Historical Revolutions</dc:title>
</cp:coreProperties>
</file>